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7D4E-AF6D-4327-A54D-B2ED2E8FB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9A3B-EBE1-49A1-9CC2-D84D6904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44A8-4D62-44A2-A7A8-1CB0A096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424E-6240-41B9-8FFD-A8B18C8CD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076E-8CAD-49F3-BDBA-DC867E2D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3AB-8B39-4097-BFA8-148D62B9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D15-F2BD-47A2-A9E8-52E6FAF4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12D-0394-4DB0-BB50-6779B3E1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9C65-7C17-4F69-A4E1-09E65010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78FB-47F4-4A47-B1BC-D32D4BEB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C67-4E09-448C-972A-08763E8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2CE-B3F5-4285-954B-1CA1E25E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171A-8253-4328-87EB-EEACB717BB1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nnemin çeyiz sandığını karıştırdım dü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dını mıh gibi aklımda tutuyor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Öksüz yavruları bağrıma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bast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rabaya koştu çocukla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blası dün yarışmaya katıld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Kalbinize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 iyilik yapı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Çenesini tutsun artık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f1ad"/>
          </a:solidFill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Zabıta, simitçilere göz açtırmıyor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Anılmazdı Veysel adı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Arabamız, yolda güçlükle ilerliyor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Kızılay, kara gün dostu olan bir kuruluştur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Hasta oldum soğuk odalard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şını, eşini, işini bil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Düşünüp düşünüp yanıyor ins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Hititler, eski bir uygarlıktı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Bunlar, en sevdiğim kitaplarımdı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0" spc="-1" strike="noStrike">
                <a:solidFill>
                  <a:srgbClr val="000099"/>
                </a:solidFill>
                <a:latin typeface="Tahoma"/>
                <a:ea typeface="Tahoma"/>
              </a:rPr>
              <a:t>Al bir ata binmiş</a:t>
            </a: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 o gec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kşam olunca sustururum herkesi, her şey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kşamlardan, gecelerden, senden uzağ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rıyorum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yıllardır ben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on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08:46Z</dcterms:modified>
  <cp:revision>97</cp:revision>
  <dc:subject/>
  <dc:title>KONU 1</dc:title>
</cp:coreProperties>
</file>